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1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41280" y="3951360"/>
            <a:ext cx="6661440" cy="198360"/>
            <a:chOff x="1241280" y="3951360"/>
            <a:chExt cx="6661440" cy="198360"/>
          </a:xfrm>
        </p:grpSpPr>
        <p:sp>
          <p:nvSpPr>
            <p:cNvPr id="44" name=""/>
            <p:cNvSpPr/>
            <p:nvPr/>
          </p:nvSpPr>
          <p:spPr>
            <a:xfrm>
              <a:off x="4195800" y="395136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41280" y="395136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1"/>
          </p:nvPr>
        </p:nvSpPr>
        <p:spPr>
          <a:xfrm>
            <a:off x="89964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.opasnet.org/fi/H&#228;meenkyr&#246;n_j&#228;tteenpolttolaitos" TargetMode="External"/><Relationship Id="rId2" Type="http://schemas.openxmlformats.org/officeDocument/2006/relationships/hyperlink" Target="http://fi.opasnet.org/fi/H&#228;meenkyr&#246;n_j&#228;tteenpolttolaitos" TargetMode="External"/><Relationship Id="rId3" Type="http://schemas.openxmlformats.org/officeDocument/2006/relationships/hyperlink" Target="http://fi.opasnet.org/fi/H&#228;meenkyr&#246;n_j&#228;tteenpolttolaitos" TargetMode="External"/><Relationship Id="rId4" Type="http://schemas.openxmlformats.org/officeDocument/2006/relationships/hyperlink" Target="http://fi.opasnet.org/fi/H&#228;meenkyr&#246;n_j&#228;tteenpolttolaitos" TargetMode="External"/><Relationship Id="rId5" Type="http://schemas.openxmlformats.org/officeDocument/2006/relationships/hyperlink" Target="http://fi.opasnet.org/fi/H&#228;meenkyr&#246;n_j&#228;tteenpolttolaitos" TargetMode="External"/><Relationship Id="rId6" Type="http://schemas.openxmlformats.org/officeDocument/2006/relationships/hyperlink" Target="http://fi.opasnet.org/fi/H&#228;meenkyr&#246;n_j&#228;tteenpolttolaitos" TargetMode="External"/><Relationship Id="rId7" Type="http://schemas.openxmlformats.org/officeDocument/2006/relationships/hyperlink" Target="http://fi.opasnet.org/fi/Keskustelu:H&#228;meenkyr&#246;n_j&#228;tteenpolttolaitos" TargetMode="External"/><Relationship Id="rId8" Type="http://schemas.openxmlformats.org/officeDocument/2006/relationships/hyperlink" Target="http://fi.opasnet.org/fi/Keskustelu:H&#228;meenkyr&#246;n_j&#228;tteenpolttolaitos" TargetMode="External"/><Relationship Id="rId9" Type="http://schemas.openxmlformats.org/officeDocument/2006/relationships/hyperlink" Target="http://fi.opasnet.org/fi/Keskustelu:H&#228;meenkyr&#246;n_j&#228;tteenpolttolaitos" TargetMode="External"/><Relationship Id="rId10" Type="http://schemas.openxmlformats.org/officeDocument/2006/relationships/hyperlink" Target="http://fi.opasnet.org/fi/Keskustelu:H&#228;meenkyr&#246;n_j&#228;tteenpolttolaitos" TargetMode="External"/><Relationship Id="rId11" Type="http://schemas.openxmlformats.org/officeDocument/2006/relationships/hyperlink" Target="http://fi.opasnet.org/fi/Keskustelu:H&#228;meenkyr&#246;n_j&#228;tteenpolttolaitos" TargetMode="External"/><Relationship Id="rId12" Type="http://schemas.openxmlformats.org/officeDocument/2006/relationships/hyperlink" Target="http://fi.opasnet.org/fi/Keskustelu:H&#228;meenkyr&#246;n_j&#228;tteenpolttolaitos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.opasnet.org/fi/Opasnet" TargetMode="External"/><Relationship Id="rId2" Type="http://schemas.openxmlformats.org/officeDocument/2006/relationships/hyperlink" Target="http://fi.opasnet.org/fi/Opasnet" TargetMode="External"/><Relationship Id="rId3" Type="http://schemas.openxmlformats.org/officeDocument/2006/relationships/hyperlink" Target="http://en.opasnet.org/w/Opasnet_File" TargetMode="External"/><Relationship Id="rId4" Type="http://schemas.openxmlformats.org/officeDocument/2006/relationships/hyperlink" Target="http://en.opasnet.org/w/Opasnet_File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Opasnet – väline tieteellisen tiedon jalkauttamisee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580032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Jouni Tuomisto, Ympäristöterveyden osasto, THL, Kuop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HL:n strategia pähkinänkuoressa: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tavuus, vaikuttavuus, vaikuttavu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7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iltä vaaditaan entistä enemmän näyttöä siitä, mitä parannuksia tuottamamme tieto on saanut aikaan yhteiskunnas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erveyden parantum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riarvoisuuden vähenemi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han säästö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riisien välttämistä tai niistä kunnialla selviämist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os tuottamamme tieto ei leviä yhteiskuntaan, sillä ei voi olla myöskään vaikutusta. Tieteellinen julkaiseminen ei riit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ikuttavampi tutkimus on kiinni kulttuurista ja toimintatavo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tavuus on paljon kiinni tiedon jakamisesta ja toisaalta yhteiskunnallisten kysymysten kysymisest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kaminen ja keskustelu johtavat toisaalta yhteiskunnassa olevan ymmärryksen lisääntymiseen, toisaalta ne auttavat tutkijoita näkemään mikä heidän työssään on tärkeä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opivat työkalut helpottavat toimintatapojen muuto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 on verkkotyötila tiedon jalostamiseen ja jakamiseen. Se on suunniteltu helpottamaan tietotyötä aiheesta riippumat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Hämeenkyrön jätteenpolttolaitos: yhteiskunnallista keskustelua tieteellisistä kysymyksistä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ämeenkyröön suunniteltiin 2006 jätteenpolttolaito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ankkeella oli sekä kiivasta kannatusta että vastustu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HL/YMTO tuotti asiasta tietosivun, teki alustavia laskelmia terveysvaikutuksista ja moderoi kansalaiskeskustelua. Työ tehtiin avoimesti Opasneti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fi.opasnet.org</a:t>
            </a: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/</a:t>
            </a: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4"/>
              </a:rPr>
              <a:t>fi</a:t>
            </a: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5"/>
              </a:rPr>
              <a:t>/</a:t>
            </a:r>
            <a:r>
              <a:rPr b="0" lang="fi-FI" sz="2200" spc="-1" strike="noStrike" u="sng">
                <a:solidFill>
                  <a:srgbClr val="c1df63"/>
                </a:solidFill>
                <a:uFillTx/>
                <a:latin typeface="Arial"/>
                <a:hlinkClick r:id="rId6"/>
              </a:rPr>
              <a:t>Hämeenkyrön_jätteenpolttolaito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7"/>
              </a:rPr>
              <a:t>http://</a:t>
            </a: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8"/>
              </a:rPr>
              <a:t>fi.opasnet.org</a:t>
            </a: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9"/>
              </a:rPr>
              <a:t>/</a:t>
            </a: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10"/>
              </a:rPr>
              <a:t>fi</a:t>
            </a: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11"/>
              </a:rPr>
              <a:t>/</a:t>
            </a:r>
            <a:r>
              <a:rPr b="0" lang="fi-FI" sz="2000" spc="-1" strike="noStrike" u="sng">
                <a:solidFill>
                  <a:srgbClr val="c1df63"/>
                </a:solidFill>
                <a:uFillTx/>
                <a:latin typeface="Arial"/>
                <a:hlinkClick r:id="rId12"/>
              </a:rPr>
              <a:t>Keskustelu:Hämeenkyrön_jätteenpolttolaito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yökaluja ketjuun tutkimus </a:t>
            </a:r>
            <a:r>
              <a:rPr b="1" lang="en-US" sz="3400" spc="-1" strike="noStrike">
                <a:solidFill>
                  <a:srgbClr val="7bc143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 arviointi </a:t>
            </a:r>
            <a:r>
              <a:rPr b="1" lang="en-US" sz="3400" spc="-1" strike="noStrike">
                <a:solidFill>
                  <a:srgbClr val="7bc143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 keskustelu </a:t>
            </a:r>
            <a:r>
              <a:rPr b="1" lang="en-US" sz="3400" spc="-1" strike="noStrike">
                <a:solidFill>
                  <a:srgbClr val="7bc143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 päätöksentek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Opas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pasnet on verkkotyötila tutkimuksen ja arviointien tekemiselle ja niistä tiedottamiselle. Sen työkalut kytkeytyvät saumattomasti yh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Opas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iki on käyttäjän rajapinta verkkotyökaluun. &gt; 2000 sivua menetelmäkuvauksia, tietoa, arviointeja ja keskustelua arviointien osa-alue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snetissä on avoin ja suljettu os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ka tahansa voi lukea avoimen osion sisältöä ja myös kommentoida sitä. Sisällön muokkaamiseenkin voi osallistua kuka tahansa, mutta se vaatii rekisteröitymi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telusivut, joihin vedetään yhteen aiheista käytävää keskustel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snet-kanta on hyvin joustava tietokanta, johon voi tallentaa melkein mitä tahansa jonkin arvioinnin kannalta olennaista tieto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snet-laskenta on mallitusalusta helpolle tai vaativalle matemaattiselle laskennalle R-tilasto-ohjelman avu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Opasnet-</a:t>
            </a:r>
            <a:r>
              <a:rPr b="0" lang="en-US" sz="2000" spc="-1" strike="noStrike" u="sng">
                <a:solidFill>
                  <a:srgbClr val="c1df63"/>
                </a:solidFill>
                <a:uFillTx/>
                <a:latin typeface="Arial"/>
                <a:hlinkClick r:id="rId4"/>
              </a:rPr>
              <a:t>tiedostonhallin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järjestelmä, johon voidaan ladata tiedostoja (esimerkiksi taustaraportteja ja artikkeleita) ja josta ne voidaan kytkeä haluttuihin aiheisiin eli Opasnetin sivu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ejä töistä ja toiminnallisuuks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nsalaiskeskustelu ympäristöterveydellisestä aiheesta: Hämeenkyrö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joiden yhteenvetämä julkinen keskustelu: sikainfluenssaroko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muksen ja sen tulosten kuvaus: sarkoomatutkim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rveysvaikutusten arviointi ja siihen liittyvä mallilaskenta: radon sisäil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ähköinen käyttäjäkysely ja tulosten analysointi: Joensuun kaupunkisuunnittel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TOKin näytteenhallinta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oimintaperiaatteet tietotyön tekemisessä Opasnetiss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en työn voi tehdä samassa paika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uutamalla yleiskäyttöisellä perustyökalulla hoidetaan suurin osa työst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yö tehdään heti niin avoimesti kuin tieto sallii, jolloin julkaiseminen tapahtuu ”itsestää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avaaminen myöhemmin pala kerrallaan tehdään myös helpo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odulaarisuus: työ pilkotaan valmiiksi järkeviin palasiin, joita voi työstää itsenäise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inaaminen: Olemassa olevien tietojen lainaaminen tehdään mahdollisimman helpoksi niin THL:n sisällä kuin yhteiskunnassak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in asiakaslupa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voite on ollut, että mitä tahansa arviointityössä pitääkin tehdä, Opasnet tarjoaa siihen työkalu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siakaslupaus: Jos jonkin tietotyön tekeminen Opasnetissä on mahdotonta, käynnistämme kehitysprojektin sen toiminnallisuuden sisällyttämise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ännössä uuden kehittämistä tärkeämpää on ollut olemassa olevien toiminnallisuuksien opettaminen ja käyttöönotto. Tämä edistää samalla myös työtapojen harmonisoin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6:35:28Z</dcterms:created>
  <dc:creator>ktluser</dc:creator>
  <dc:description/>
  <dc:language>en-US</dc:language>
  <cp:lastModifiedBy>ktluser</cp:lastModifiedBy>
  <dcterms:modified xsi:type="dcterms:W3CDTF">2011-09-28T08:29:56Z</dcterms:modified>
  <cp:revision>6</cp:revision>
  <dc:subject/>
  <dc:title>Opasnet – väline tieteellisen tiedon jalkauttamiseen</dc:title>
</cp:coreProperties>
</file>